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94D-583F-41D1-934C-EB54B6F9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BF3-4587-43C6-A3A4-E088B3D7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CD2-4E84-4B82-B0D8-BC6AA81E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05D-D6A0-4F99-AF7B-7A89447E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06F-53E4-4471-B8C9-46D840F6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513-6EC2-4B2B-8C39-1A696600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B5A-1F0A-4F9B-99ED-40F89B10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21B-7A4F-4D53-B33E-862F4E9B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1F3-AFAC-4A06-B730-EA00D05C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B8D-2EC5-4804-8CC0-4FB6B915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F89-10C8-418E-BF07-13D9A4C1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7CF-C330-4968-AAFD-10AD19D6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BF49-754B-4051-BD85-37604118C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upload.wikimedia.org/wikipedia/commons/1/16/Typha_latifolia_02_bgiu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upload.wikimedia.org/wikipedia/commons/b/b8/Willow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f/fe/The_Lilly_Of_Life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7080" y="95400"/>
            <a:ext cx="4368600" cy="32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81000"/>
            <a:ext cx="4495680" cy="3271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4114800" cy="3282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4368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038480" cy="333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24280" y="123840"/>
            <a:ext cx="4305600" cy="322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724280" y="356220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4191120" cy="3327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233280"/>
            <a:ext cx="4419360" cy="304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80880" y="3467160"/>
            <a:ext cx="3886200" cy="3390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44956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77760"/>
            <a:ext cx="4343400" cy="327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24280" y="-76320"/>
            <a:ext cx="426744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File:Typha latifolia 02 bgiu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54348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File:Willow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3411360"/>
            <a:ext cx="44956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File:The Lilly Of Lif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Mute Swans (Cygnus olor)"/>
          <p:cNvPicPr/>
          <p:nvPr/>
        </p:nvPicPr>
        <p:blipFill>
          <a:blip r:embed="rId3"/>
          <a:stretch/>
        </p:blipFill>
        <p:spPr>
          <a:xfrm>
            <a:off x="76320" y="35053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876920" y="50760"/>
            <a:ext cx="3962160" cy="3301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File:Two american alligators.jpg"/>
          <p:cNvPicPr/>
          <p:nvPr/>
        </p:nvPicPr>
        <p:blipFill>
          <a:blip r:embed="rId5"/>
          <a:stretch/>
        </p:blipFill>
        <p:spPr>
          <a:xfrm>
            <a:off x="4724280" y="35053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22790</cp:lastModifiedBy>
  <dcterms:modified xsi:type="dcterms:W3CDTF">2008-12-19T00:10:14Z</dcterms:modified>
  <cp:revision>10</cp:revision>
  <dc:subject/>
  <dc:title>Slide 1</dc:title>
</cp:coreProperties>
</file>